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6.wmf" ContentType="image/x-wmf"/>
  <Override PartName="/ppt/media/image11.wmf" ContentType="image/x-wmf"/>
  <Override PartName="/ppt/media/image4.gif" ContentType="image/gif"/>
  <Override PartName="/ppt/media/image12.wmf" ContentType="image/x-wmf"/>
  <Override PartName="/ppt/media/image5.gif" ContentType="image/gif"/>
  <Override PartName="/ppt/media/image13.wmf" ContentType="image/x-wmf"/>
  <Override PartName="/ppt/media/image7.gif" ContentType="image/gif"/>
  <Override PartName="/ppt/media/image8.gif" ContentType="image/gif"/>
  <Override PartName="/ppt/media/image9.gif" ContentType="image/gi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3600" cy="124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8309-DF3A-4DF8-B0BD-DC38F725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-357480"/>
            <a:ext cx="7461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373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988880"/>
            <a:ext cx="75373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349E-EE34-484C-BE5D-A2AB2CA4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-357480"/>
            <a:ext cx="7461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781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0680" y="1981080"/>
            <a:ext cx="36781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988880"/>
            <a:ext cx="36781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0680" y="4988880"/>
            <a:ext cx="36781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42BE-31F0-46AE-97C9-127D12B1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-357480"/>
            <a:ext cx="7461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67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6680" y="1981080"/>
            <a:ext cx="24267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5120" y="1981080"/>
            <a:ext cx="24267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988880"/>
            <a:ext cx="24267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6680" y="4988880"/>
            <a:ext cx="24267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5120" y="4988880"/>
            <a:ext cx="24267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53AB-61BE-4A95-AC19-AC8F23AD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AEBF-48B8-4940-B502-B84E62DE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-357480"/>
            <a:ext cx="7461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37320" cy="57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8EA1-51C2-4862-87E6-C033BB7F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357480"/>
            <a:ext cx="7461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3732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83B3-C3D3-4071-92DA-3B7C016D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-357480"/>
            <a:ext cx="7461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7812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0680" y="1981080"/>
            <a:ext cx="367812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605D-85CF-40A3-8654-FF4E5594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57480"/>
            <a:ext cx="7461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DEEE-32CA-4D1A-9228-73EF80C2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-357480"/>
            <a:ext cx="74613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0F8B-7522-4743-8048-75171707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57480"/>
            <a:ext cx="7461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781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0680" y="1981080"/>
            <a:ext cx="367812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988880"/>
            <a:ext cx="36781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E3B1-10E3-4465-BFD2-3FD9634B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-357480"/>
            <a:ext cx="7461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37320" cy="57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6A1B-3B13-4174-AB95-56F8C620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-357480"/>
            <a:ext cx="7461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7812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0680" y="1981080"/>
            <a:ext cx="36781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0680" y="4988880"/>
            <a:ext cx="36781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20C0-8683-4547-96B6-B4BB1161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-357480"/>
            <a:ext cx="7461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781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0680" y="1981080"/>
            <a:ext cx="36781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988880"/>
            <a:ext cx="75373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5661-5EC1-41D2-A8A8-C50E9734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-357480"/>
            <a:ext cx="7461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373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988880"/>
            <a:ext cx="75373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C6CC-493F-4E14-9739-336EC9D0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-357480"/>
            <a:ext cx="7461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781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0680" y="1981080"/>
            <a:ext cx="36781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988880"/>
            <a:ext cx="36781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0680" y="4988880"/>
            <a:ext cx="36781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1AD0-FD81-4002-B25C-749C9B440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-357480"/>
            <a:ext cx="7461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67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6680" y="1981080"/>
            <a:ext cx="24267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5120" y="1981080"/>
            <a:ext cx="24267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988880"/>
            <a:ext cx="24267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6680" y="4988880"/>
            <a:ext cx="24267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5120" y="4988880"/>
            <a:ext cx="24267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DB3E-901A-45B8-8AD2-8760E46C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-357480"/>
            <a:ext cx="7461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3732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63D2-422D-4E7C-97F3-E9AB4E50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-357480"/>
            <a:ext cx="7461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7812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0680" y="1981080"/>
            <a:ext cx="367812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16BD-F754-4383-ACE8-4054D3FF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-357480"/>
            <a:ext cx="7461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6457-712F-444D-BF70-64A6E4F6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-357480"/>
            <a:ext cx="74613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D65F-8220-406B-AB41-8D385C01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-357480"/>
            <a:ext cx="7461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781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0680" y="1981080"/>
            <a:ext cx="367812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988880"/>
            <a:ext cx="36781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32D6-D75C-4E0C-B86C-ECD7BCAD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-357480"/>
            <a:ext cx="7461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7812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0680" y="1981080"/>
            <a:ext cx="36781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0680" y="4988880"/>
            <a:ext cx="36781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6F7C-4200-4457-9F34-1F68DBEF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-357480"/>
            <a:ext cx="7461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781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0680" y="1981080"/>
            <a:ext cx="36781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988880"/>
            <a:ext cx="75373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6F01-B3AD-4BDB-B1A0-616C5B8B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-357480"/>
            <a:ext cx="7461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3732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5937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498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174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506613-39B7-413B-9823-36A87A3EF31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480600"/>
            <a:ext cx="62420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160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08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651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7AB9AD-843B-49EC-9A78-7469D15AE6C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t.wikipedia.org/wiki/Sa&#250;de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t.wikipedia.org/wiki/Organismo" TargetMode="External"/><Relationship Id="rId2" Type="http://schemas.openxmlformats.org/officeDocument/2006/relationships/hyperlink" Target="http://www.google.com.br/#hl=pt-BR&amp;source=hp&amp;biw=&amp;bih=&amp;q=preven&#231;&#227;o+de+doen&#231;as&amp;aq=0&amp;aqi=g10&amp;aql=&amp;oq=preven&#231;&#227;o+de+doen&amp;fp=1" TargetMode="External"/><Relationship Id="rId3" Type="http://schemas.openxmlformats.org/officeDocument/2006/relationships/hyperlink" Target="http://www.dicio.com.br/asseio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t.wikipedia.org/wiki/Disenteria" TargetMode="External"/><Relationship Id="rId2" Type="http://schemas.openxmlformats.org/officeDocument/2006/relationships/hyperlink" Target="http://www.google.com.br/search?q=febre+tif&#243;ide&amp;hl=pt-BR&amp;prmd=ivns&amp;tbm=isch&amp;tbo=u&amp;source=univ&amp;sa=X&amp;ei=x5m5TeyGM6bg0QHC3OzmDw&amp;ved=0CDUQsAQ&amp;biw=1312&amp;bih=555" TargetMode="External"/><Relationship Id="rId3" Type="http://schemas.openxmlformats.org/officeDocument/2006/relationships/hyperlink" Target="http://pt.wikipedia.org/wiki/Salmonelose" TargetMode="External"/><Relationship Id="rId4" Type="http://schemas.openxmlformats.org/officeDocument/2006/relationships/hyperlink" Target="http://www.youtube.com/watch?v=RR3aO6B9Tp8" TargetMode="External"/><Relationship Id="rId5" Type="http://schemas.openxmlformats.org/officeDocument/2006/relationships/hyperlink" Target="http://www.abcdasaude.com.br/artigo.php?222" TargetMode="External"/><Relationship Id="rId6" Type="http://schemas.openxmlformats.org/officeDocument/2006/relationships/hyperlink" Target="http://www.suapesquisa.com/idademedia/peste_negra.htm" TargetMode="External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.br/search?q=alimentar-se+bem&amp;hl=pt-BR&amp;prmd=ivns&amp;tbm=isch&amp;tbo=u&amp;source=univ&amp;sa=X&amp;ei=5p25Tei5OKjw0gGZx_XVDw&amp;ved=0CGoQsAQ&amp;biw=1312&amp;bih=555" TargetMode="External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t.wikipedia.org/wiki/C&#243;lera" TargetMode="External"/><Relationship Id="rId2" Type="http://schemas.openxmlformats.org/officeDocument/2006/relationships/hyperlink" Target="http://pt.wikipedia.org/wiki/Doen&#231;a_gastrointestinal" TargetMode="External"/><Relationship Id="rId3" Type="http://schemas.openxmlformats.org/officeDocument/2006/relationships/hyperlink" Target="http://www.cives.ufrj.br/informacao/malaria/mal-iv.html" TargetMode="External"/><Relationship Id="rId4" Type="http://schemas.openxmlformats.org/officeDocument/2006/relationships/hyperlink" Target="http://www.youtube.com/watch?v=ZIQnZv7AfdI" TargetMode="External"/><Relationship Id="rId5" Type="http://schemas.openxmlformats.org/officeDocument/2006/relationships/hyperlink" Target="http://pt.wikipedia.org/wiki/Febre_amarela" TargetMode="External"/><Relationship Id="rId6" Type="http://schemas.openxmlformats.org/officeDocument/2006/relationships/hyperlink" Target="http://www.foixico.com/wp-content/uploads/2011/02/leishmaniose.jpg" TargetMode="External"/><Relationship Id="rId7" Type="http://schemas.openxmlformats.org/officeDocument/2006/relationships/hyperlink" Target="http://www.google.com.br/imgres?imgurl=http://polynesietahiti.canalblog.com/images/elephantiasis.jpg&amp;imgrefurl=http://polynesietahiti.canalblog.com/archives/2006/03/29/1610498.html&amp;usg=__iRdNjye_iQucJ3Gd_8sQBmmizD0=&amp;h=372&amp;w=547&amp;sz=75&amp;hl=pt-BR&amp;start=0&amp;sig2=Bia_AFs8C1AFdCNEElp9wA&amp;zoom=1&amp;tbnid=n1Bnk7yIxSWAbM:&amp;tbnh=121&amp;tbnw=153&amp;ei=YaK5Td6jF6SU0QHlzJDTDw&amp;prev=/search?q=filariose&amp;hl=pt-BR&amp;sa=G&amp;biw=1312&amp;bih=579&amp;gbv=2&amp;tbm=isch&amp;itbs=1&amp;iact=hc&amp;vpx=272&amp;vpy=285&amp;dur=4641&amp;hovh=185&amp;hovw=272&amp;tx=76&amp;ty=109&amp;page=1&amp;ndsp=21&amp;ved=1t:429,r:15,s:0" TargetMode="External"/><Relationship Id="rId8" Type="http://schemas.openxmlformats.org/officeDocument/2006/relationships/hyperlink" Target="http://www.abcdasaude.com.br/artigo.php?417" TargetMode="External"/><Relationship Id="rId9" Type="http://schemas.openxmlformats.org/officeDocument/2006/relationships/hyperlink" Target="http://www.brasilescola.com/doencas/cisticercose.htm" TargetMode="External"/><Relationship Id="rId10" Type="http://schemas.openxmlformats.org/officeDocument/2006/relationships/image" Target="../media/image8.gif"/><Relationship Id="rId11" Type="http://schemas.openxmlformats.org/officeDocument/2006/relationships/image" Target="../media/image9.gi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349200"/>
            <a:ext cx="62485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3300"/>
                </a:solidFill>
                <a:latin typeface="Arial Black"/>
              </a:rPr>
              <a:t>HIGIENE E </a:t>
            </a:r>
            <a:r>
              <a:rPr b="0" lang="pt-BR" sz="4000" spc="-1" strike="noStrike" u="sng">
                <a:solidFill>
                  <a:srgbClr val="ccccff"/>
                </a:solidFill>
                <a:uFillTx/>
                <a:latin typeface="Arial Black"/>
                <a:hlinkClick r:id="rId1"/>
              </a:rPr>
              <a:t>SAÚDE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osmic Sans MS"/>
              </a:rPr>
              <a:t>  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4560" y="4114440"/>
            <a:ext cx="6019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3300"/>
                </a:solidFill>
                <a:latin typeface="Arial"/>
              </a:rPr>
              <a:t>Gizelda Rodrigues de Araúj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1676520" y="114300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609480" y="304920"/>
            <a:ext cx="746784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9900"/>
                </a:solidFill>
                <a:latin typeface="Bremen Bd BT"/>
              </a:rPr>
              <a:t>O que é HIGIEN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Sistema de regras e práticas que visam a preservação das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funções do organismo</a:t>
            </a: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 e a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revenção de doenç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Conjunto das práticas que asseguram a limpeza nos ambientes públicos e nos locais de trabalho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Limpeza,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asseio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209160"/>
            <a:ext cx="74674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3300"/>
                </a:solidFill>
                <a:latin typeface="Arial Black"/>
              </a:rPr>
              <a:t>FALTA DE HIGIENE TRANSMITE DOENÇAS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8600" y="1600200"/>
          <a:ext cx="7696080" cy="4952880"/>
        </p:xfrm>
        <a:graphic>
          <a:graphicData uri="http://schemas.openxmlformats.org/drawingml/2006/table">
            <a:tbl>
              <a:tblPr/>
              <a:tblGrid>
                <a:gridCol w="2579760"/>
                <a:gridCol w="2558880"/>
                <a:gridCol w="2557440"/>
              </a:tblGrid>
              <a:tr h="712800">
                <a:tc>
                  <a:txBody>
                    <a:bodyPr lIns="90000" rIns="90000" tIns="99720" bIns="4680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3300"/>
                          </a:solidFill>
                          <a:latin typeface="Bremen Blk BT"/>
                        </a:rPr>
                        <a:t>INIMIG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9720" bIns="4680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3300"/>
                          </a:solidFill>
                          <a:latin typeface="Bremen Blk BT"/>
                        </a:rPr>
                        <a:t>DOENÇAS QUE PEGAM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9720" bIns="4680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3300"/>
                          </a:solidFill>
                          <a:latin typeface="Bremen Blk BT"/>
                        </a:rPr>
                        <a:t>COMO PEGAM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5240">
                <a:tc>
                  <a:txBody>
                    <a:bodyPr lIns="90000" rIns="90000" tIns="215640" bIns="46800" anchor="t">
                      <a:noAutofit/>
                    </a:bodyPr>
                    <a:p>
                      <a:pPr>
                        <a:lnSpc>
                          <a:spcPct val="7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MOS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4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"/>
                        </a:rPr>
                        <a:t>Disenter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4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/>
                        </a:rPr>
                        <a:t>Febre tifói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4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/>
                        </a:rPr>
                        <a:t>Salmolone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4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/>
                        </a:rPr>
                        <a:t>Verminose e outr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as suas patas,asas,corpofezes e saliva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4840">
                <a:tc>
                  <a:txBody>
                    <a:bodyPr lIns="90000" rIns="90000" tIns="215640" bIns="46800" anchor="t">
                      <a:noAutofit/>
                    </a:bodyPr>
                    <a:p>
                      <a:pPr>
                        <a:lnSpc>
                          <a:spcPct val="7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RATO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tospiro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4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/>
                        </a:rPr>
                        <a:t>Hantavír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4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/>
                        </a:rPr>
                        <a:t>Peste Bubônic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as suas fezes, urina, pulga e mordida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6" name="Picture 36" descr=""/>
          <p:cNvPicPr/>
          <p:nvPr/>
        </p:nvPicPr>
        <p:blipFill>
          <a:blip r:embed="rId7"/>
          <a:stretch/>
        </p:blipFill>
        <p:spPr>
          <a:xfrm>
            <a:off x="1295280" y="2590920"/>
            <a:ext cx="1371600" cy="1533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7" descr=""/>
          <p:cNvPicPr/>
          <p:nvPr/>
        </p:nvPicPr>
        <p:blipFill>
          <a:blip r:embed="rId8"/>
          <a:stretch/>
        </p:blipFill>
        <p:spPr>
          <a:xfrm>
            <a:off x="1066680" y="4572000"/>
            <a:ext cx="1486080" cy="1608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8" descr=""/>
          <p:cNvPicPr/>
          <p:nvPr/>
        </p:nvPicPr>
        <p:blipFill>
          <a:blip r:embed="rId9"/>
          <a:stretch/>
        </p:blipFill>
        <p:spPr>
          <a:xfrm>
            <a:off x="2819520" y="5638680"/>
            <a:ext cx="1382760" cy="8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762120" y="380880"/>
            <a:ext cx="7315200" cy="71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PARA TERMOS SAÚDE É PRECISO PRESERVA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IGIENE DO CORPO E DA MEN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Para temos saúde física é precis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Evitar andar descalço e só usar roupas limpa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Alimentar-se correta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Lavar as mãos antes das refeiçõ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Procurar um posto de saúde para tomar vacina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Escovar os dentes  ao acordar , depois das refeições e antes de ir dormir.</a:t>
            </a:r>
            <a:r>
              <a:rPr b="1" lang="pt-BR" sz="2800" spc="-1" strike="noStrike">
                <a:solidFill>
                  <a:srgbClr val="000000"/>
                </a:solidFill>
                <a:latin typeface="Cosmic Sans MS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6324480" y="3200400"/>
            <a:ext cx="1067040" cy="1004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3"/>
          <a:stretch/>
        </p:blipFill>
        <p:spPr>
          <a:xfrm>
            <a:off x="5410080" y="5867280"/>
            <a:ext cx="175284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28600" y="304920"/>
          <a:ext cx="7545240" cy="5489280"/>
        </p:xfrm>
        <a:graphic>
          <a:graphicData uri="http://schemas.openxmlformats.org/drawingml/2006/table">
            <a:tbl>
              <a:tblPr/>
              <a:tblGrid>
                <a:gridCol w="2514600"/>
                <a:gridCol w="2516040"/>
                <a:gridCol w="2514600"/>
              </a:tblGrid>
              <a:tr h="2355840">
                <a:tc>
                  <a:txBody>
                    <a:bodyPr lIns="90000" rIns="90000" tIns="215640" bIns="46800" anchor="t">
                      <a:noAutofit/>
                    </a:bodyPr>
                    <a:p>
                      <a:pPr>
                        <a:lnSpc>
                          <a:spcPct val="7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BARA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re tifói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4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"/>
                        </a:rPr>
                        <a:t>Cólera,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erminose, </a:t>
                      </a:r>
                      <a:r>
                        <a:rPr b="0" lang="pt-BR" sz="24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/>
                        </a:rPr>
                        <a:t>Doenças gastrointestina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as suas patas,asas, corpo e fezes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0">
                <a:tc>
                  <a:txBody>
                    <a:bodyPr lIns="90000" rIns="90000" tIns="215640" bIns="46800" anchor="t">
                      <a:noAutofit/>
                    </a:bodyPr>
                    <a:p>
                      <a:pPr>
                        <a:lnSpc>
                          <a:spcPct val="7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MOSQUI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4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/>
                        </a:rPr>
                        <a:t>Malária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pt-BR" sz="24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/>
                        </a:rPr>
                        <a:t>Dengue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24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/>
                        </a:rPr>
                        <a:t>Febre amarela,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24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/>
                        </a:rPr>
                        <a:t>Leishmaniose,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24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/>
                        </a:rPr>
                        <a:t>Filariose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avés da picada do mosquito fême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0240">
                <a:tc>
                  <a:txBody>
                    <a:bodyPr lIns="90000" rIns="90000" tIns="215640" bIns="46800" anchor="t">
                      <a:noAutofit/>
                    </a:bodyPr>
                    <a:p>
                      <a:pPr>
                        <a:lnSpc>
                          <a:spcPct val="7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POR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6892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/>
                        </a:rPr>
                        <a:t>Toxoplasm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/>
                        </a:rPr>
                        <a:t>Cisticercose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8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Teniase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6892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zes e carne contaminada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" name="Picture 35" descr=""/>
          <p:cNvPicPr/>
          <p:nvPr/>
        </p:nvPicPr>
        <p:blipFill>
          <a:blip r:embed="rId10"/>
          <a:stretch/>
        </p:blipFill>
        <p:spPr>
          <a:xfrm>
            <a:off x="380880" y="990720"/>
            <a:ext cx="2370240" cy="1622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6" descr=""/>
          <p:cNvPicPr/>
          <p:nvPr/>
        </p:nvPicPr>
        <p:blipFill>
          <a:blip r:embed="rId11"/>
          <a:stretch/>
        </p:blipFill>
        <p:spPr>
          <a:xfrm>
            <a:off x="762120" y="4114800"/>
            <a:ext cx="2057400" cy="193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609480" y="228600"/>
            <a:ext cx="7620120" cy="67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Tomar banho todos os dia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Ter sempre as unhas cortadas e limpas e evitar roê-la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Dormir cedo e acordar cedo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Praticar esport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Para termos saúde mental é precis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Ler bons livros e revista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Assistir a bons programas de televisã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Passear, conhecer pessoas e lugares diferent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Divertir-s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1295280" cy="1148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3048120" y="5638680"/>
            <a:ext cx="1038240" cy="1219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3"/>
          <a:stretch/>
        </p:blipFill>
        <p:spPr>
          <a:xfrm>
            <a:off x="7620120" y="4572000"/>
            <a:ext cx="1181160" cy="1576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4"/>
          <a:stretch/>
        </p:blipFill>
        <p:spPr>
          <a:xfrm>
            <a:off x="5562720" y="3657600"/>
            <a:ext cx="10033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762120" y="762120"/>
            <a:ext cx="723888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IGIENE DO AMB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Cuidados que devemos Ter com a higiene do Meio ambiente em que vivem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Cuidar da limpeza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os</a:t>
            </a:r>
            <a:r>
              <a:rPr b="0" lang="pt-BR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os dia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Deixar as janelas aberta para que o ar circul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Colocar o lixo em cestos com tampa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Não deixar a água parada em garrafas, pneus velhos, vasos de plantas etc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7T18:14:22Z</dcterms:created>
  <dc:creator>mirtes.lebrego</dc:creator>
  <dc:description/>
  <dc:language>en-US</dc:language>
  <cp:lastModifiedBy>ASPIRE 4732Z</cp:lastModifiedBy>
  <dcterms:modified xsi:type="dcterms:W3CDTF">2013-10-22T03:06:50Z</dcterms:modified>
  <cp:revision>6</cp:revision>
  <dc:subject/>
  <dc:title>HIGIENE E SAÚDE </dc:title>
</cp:coreProperties>
</file>